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1.png" ContentType="image/png"/>
  <Override PartName="/ppt/media/image35.png" ContentType="image/png"/>
  <Override PartName="/ppt/media/image40.png" ContentType="image/png"/>
  <Override PartName="/ppt/media/image47.wmf" ContentType="image/x-wmf"/>
  <Override PartName="/ppt/media/image31.jpeg" ContentType="image/jpe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.jpeg" ContentType="image/jpeg"/>
  <Override PartName="/ppt/media/image50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EC0C-A0B0-4A3D-B376-6066EE70CE9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senvolupar exp(hv/kT) = 1+ hv/kt -&gt; I(v,T) = 2kTv^2 /c^2 (augment cuadratic de la intensitat amb la frecuencia, igual que en  llei de Rayleigh-J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9101-E85B-4695-AF04-BB1E2E08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D615-DEDB-4FBE-89DA-2CA6C049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02B9-E0AB-40D0-B798-B5FFDE32C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6BDB-3D4C-4836-BC1D-76B348570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658C-BB0C-4C79-AD0C-282533EF6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3458-7ABE-4921-8814-D72DB152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8DB0-E58D-47EC-B3F2-1F5A8454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67B9-1BF3-4164-BB06-93BF4090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7DB5-D95D-4B66-8F27-9F0C47E1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3C95-FEE5-461A-A9DB-CBBB3B50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85E8-CBCD-44F6-B5B7-39EB9F18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D8AA-E31D-49E7-AA3A-6F7B8C59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B8B8-0C69-4DAE-A72C-B0D42544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7D03-20EE-420A-A918-8341EA54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8D15-3FE2-4780-B85C-807E118F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3845-E4E0-4A4B-B6B4-3983A848D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965B-5398-4A9A-B1DA-EF32EA308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73F0-F503-4487-8A27-4B267448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ADEA-8EE7-4A95-8B8F-27461B8F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A163-8282-4F16-9358-39F3E807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BD33-8D90-45CA-8A04-F5785756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3C84-E842-4B13-B6E0-AE166A94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C31E-3F78-4109-A4B6-8C1FD447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7153-C2D6-4CB0-B217-831DDF3A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C70D-C044-4029-9B6D-F6B72561647C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E3E7-0841-41D9-98E3-7EE7F1155661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png"/><Relationship Id="rId7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8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7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800" spc="-1" strike="noStrike">
                <a:solidFill>
                  <a:srgbClr val="b2b2b2"/>
                </a:solidFill>
                <a:latin typeface="Arial"/>
              </a:rPr>
              <a:t>RADIACIÓ TÉRMICA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32000" y="134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ffffff"/>
                </a:solidFill>
                <a:latin typeface="Arial"/>
              </a:rPr>
              <a:t>David Jaramillo Císc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1951200"/>
            <a:ext cx="45370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Cos neg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Definici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Llei de Plan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Llei de Stefan-Boltzman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Llei de Wi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Exemples - Utilita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Emisivit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Llei de Kirchhoff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Utilitats – Piròmetre de radiaci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Experi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Resulta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Emisivit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042920" y="1341360"/>
          <a:ext cx="6969240" cy="453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341360"/>
                    <a:ext cx="6969240" cy="453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b2b2b2"/>
                </a:solidFill>
                <a:latin typeface="Arial"/>
              </a:rPr>
              <a:t>Emisivitat</a:t>
            </a:r>
            <a:br>
              <a:rPr sz="4400"/>
            </a:br>
            <a:r>
              <a:rPr b="0" lang="ca-ES" sz="2000" spc="-1" strike="noStrike">
                <a:solidFill>
                  <a:srgbClr val="b2b2b2"/>
                </a:solidFill>
                <a:latin typeface="Arial"/>
              </a:rPr>
              <a:t>Llei de Kirchhoff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716360" y="1557360"/>
          <a:ext cx="332424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557360"/>
                    <a:ext cx="332424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1403280" y="4437000"/>
          <a:ext cx="1019160" cy="42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4437000"/>
                    <a:ext cx="10191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5076720" y="3284640"/>
          <a:ext cx="3260880" cy="288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6720" y="3284640"/>
                    <a:ext cx="3260880" cy="28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395280" y="1484280"/>
            <a:ext cx="3672000" cy="29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Cossos gris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  <a:ea typeface="Arial"/>
              </a:rPr>
              <a:t>Els objectes reals no es comporten com a cossos negres idea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No absorbeixen tota l’energia incid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Llei  de Kirchhof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  <a:ea typeface="Arial"/>
              </a:rPr>
              <a:t>En equilibri tèrmic la absortivitat és  igual a la emissivit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651640" y="2492280"/>
                <a:ext cx="15555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εσ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b2b2b2"/>
                </a:solidFill>
                <a:latin typeface="Arial"/>
              </a:rPr>
              <a:t>Emisivitat</a:t>
            </a:r>
            <a:r>
              <a:rPr b="0" lang="ca-ES" sz="4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800"/>
            </a:b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Exemples - utilitats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En teledetecci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Es basa en que cada objecte emiteix en un espectre electromagnètic especif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0" y="3017880"/>
          <a:ext cx="9144000" cy="38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17880"/>
                    <a:ext cx="9144000" cy="38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b2b2b2"/>
                </a:solidFill>
                <a:latin typeface="Arial"/>
              </a:rPr>
              <a:t>Emisivitat</a:t>
            </a:r>
            <a:br>
              <a:rPr sz="4400"/>
            </a:br>
            <a:r>
              <a:rPr b="0" lang="ca-ES" sz="2000" spc="-1" strike="noStrike">
                <a:solidFill>
                  <a:srgbClr val="b2b2b2"/>
                </a:solidFill>
                <a:latin typeface="Arial"/>
              </a:rPr>
              <a:t>Piròmetre de radiació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Piròmetre de radiaci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Serveixen per a mesurar la temperatura dels objectes sense necessitar contacte direc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Cal conèixer l’emissivitat del objec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Fa us de la radiació termica del objecte per determinar la temperatu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79280" y="4365720"/>
          <a:ext cx="4578480" cy="224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365720"/>
                    <a:ext cx="4578480" cy="22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5867280" y="1413000"/>
          <a:ext cx="2098800" cy="18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413000"/>
                    <a:ext cx="2098800" cy="18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796000" y="3500280"/>
          <a:ext cx="2362320" cy="1765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6000" y="3500280"/>
                    <a:ext cx="2362320" cy="17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300720" y="5445000"/>
            <a:ext cx="12859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b2b2b2"/>
                </a:solidFill>
                <a:latin typeface="Arial"/>
              </a:rPr>
              <a:t>Experime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2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Material utilitz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Sensor de radiaci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Cub de Lesl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Làmpada de Stefan-Boltzm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2 polimet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Una font d'alimentaci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Cables de connexi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59280" y="1628640"/>
            <a:ext cx="345780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ffffff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  <a:ea typeface="Arial"/>
              </a:rPr>
              <a:t>Determinació de les emissivitats de cada una de les parets del cub de Lesli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Pa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  <a:ea typeface="Arial"/>
              </a:rPr>
              <a:t>Comprovació de la llei de Stefan-Boltzma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b2b2b2"/>
                </a:solidFill>
                <a:latin typeface="Arial"/>
              </a:rPr>
              <a:t>Experiment</a:t>
            </a:r>
            <a:br>
              <a:rPr sz="4400"/>
            </a:br>
            <a:r>
              <a:rPr b="0" lang="ca-ES" sz="2000" spc="-1" strike="noStrike">
                <a:solidFill>
                  <a:srgbClr val="b2b2b2"/>
                </a:solidFill>
                <a:latin typeface="Arial"/>
              </a:rPr>
              <a:t>Descripció dels materials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Sensor de radiaci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Disposa d'un anell desplaçable, que permet obrir i tancar el sens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Genera una tensió proporcional a la intensitat de la radiació que rep, aquesta tensió es mesura amb un voltímet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Cub de Lesl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Cub de parets de alumini en les cuals en les cares exteriors estan tratades de forma difer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Metall pol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Metall m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Pintura blan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Pintura neg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5497560" y="1600200"/>
          <a:ext cx="233820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97560" y="1600200"/>
                    <a:ext cx="233820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5076720" y="4005360"/>
          <a:ext cx="3167280" cy="21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4005360"/>
                    <a:ext cx="316728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b2b2b2"/>
                </a:solidFill>
                <a:latin typeface="Arial"/>
              </a:rPr>
              <a:t>Experiment</a:t>
            </a:r>
            <a:br>
              <a:rPr sz="4400"/>
            </a:br>
            <a:r>
              <a:rPr b="0" lang="ca-ES" sz="2000" spc="-1" strike="noStrike">
                <a:solidFill>
                  <a:srgbClr val="b2b2b2"/>
                </a:solidFill>
                <a:latin typeface="Arial"/>
              </a:rPr>
              <a:t>Descripció dels materials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Làmpada de Stefan-Boltz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Es una font de radiació visible que pot arribar a temperatures de fins a 3000º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La temperatura del filament es determina calculant la seua resistencia electr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635280" y="3573360"/>
          <a:ext cx="4830840" cy="30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3573360"/>
                    <a:ext cx="4830840" cy="30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b2b2b2"/>
                </a:solidFill>
                <a:latin typeface="Arial"/>
              </a:rPr>
              <a:t>Experiment</a:t>
            </a:r>
            <a:br>
              <a:rPr sz="4400"/>
            </a:br>
            <a:r>
              <a:rPr b="0" lang="ca-ES" sz="2000" spc="-1" strike="noStrike">
                <a:solidFill>
                  <a:srgbClr val="b2b2b2"/>
                </a:solidFill>
                <a:latin typeface="Arial"/>
              </a:rPr>
              <a:t>Part 1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Es procedeix a calfar el cub de Leslie amb el selec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Una volta en equilibri s’usa el sensor per a determinar l’energia irradiada per les pare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Suposarem qu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Es calcula la resta d’emissivitats per comparació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411280" y="3500280"/>
                <a:ext cx="9828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r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24" name=""/>
          <p:cNvGraphicFramePr/>
          <p:nvPr/>
        </p:nvGraphicFramePr>
        <p:xfrm>
          <a:off x="4500720" y="3645000"/>
          <a:ext cx="3759120" cy="28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645000"/>
                    <a:ext cx="3759120" cy="28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476360" y="4724280"/>
                <a:ext cx="8636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b2b2b2"/>
                </a:solidFill>
                <a:latin typeface="Arial"/>
              </a:rPr>
              <a:t>Resultats</a:t>
            </a:r>
            <a:br>
              <a:rPr sz="4400"/>
            </a:br>
            <a:r>
              <a:rPr b="0" lang="ca-ES" sz="2000" spc="-1" strike="noStrike">
                <a:solidFill>
                  <a:srgbClr val="b2b2b2"/>
                </a:solidFill>
                <a:latin typeface="Arial"/>
              </a:rPr>
              <a:t>Part 1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258920" y="1700280"/>
          <a:ext cx="6562800" cy="2549160"/>
        </p:xfrm>
        <a:graphic>
          <a:graphicData uri="http://schemas.openxmlformats.org/drawingml/2006/table">
            <a:tbl>
              <a:tblPr/>
              <a:tblGrid>
                <a:gridCol w="1093320"/>
                <a:gridCol w="1094040"/>
                <a:gridCol w="1094040"/>
                <a:gridCol w="1093680"/>
                <a:gridCol w="1094040"/>
                <a:gridCol w="1093680"/>
              </a:tblGrid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8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547640" y="1844640"/>
                <a:ext cx="55908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±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627280" y="1844640"/>
                <a:ext cx="63504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±</m:t>
                    </m:r>
                    <m:r>
                      <m:t xml:space="preserve">1</m:t>
                    </m:r>
                    <m:r>
                      <m:t xml:space="preserve">º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564000" y="1871640"/>
                <a:ext cx="84276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re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610240" y="1844640"/>
                <a:ext cx="107316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lid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522680" y="1844640"/>
                <a:ext cx="107496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lanc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761160" y="1844640"/>
                <a:ext cx="1052640" cy="2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te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2411280" y="5013360"/>
                <a:ext cx="5414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lan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211640" y="5013360"/>
                <a:ext cx="5414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li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940360" y="5013360"/>
                <a:ext cx="5018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t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38" name=""/>
          <p:cNvGraphicFramePr/>
          <p:nvPr/>
        </p:nvGraphicFramePr>
        <p:xfrm>
          <a:off x="1763640" y="5084640"/>
          <a:ext cx="5473800" cy="669960"/>
        </p:xfrm>
        <a:graphic>
          <a:graphicData uri="http://schemas.openxmlformats.org/drawingml/2006/table">
            <a:tbl>
              <a:tblPr/>
              <a:tblGrid>
                <a:gridCol w="1824120"/>
                <a:gridCol w="1825560"/>
                <a:gridCol w="1824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77 ± 0.0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74 ±0.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135 ±0.0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b2b2b2"/>
                </a:solidFill>
                <a:latin typeface="Arial"/>
              </a:rPr>
              <a:t>Experiment</a:t>
            </a:r>
            <a:br>
              <a:rPr sz="4400"/>
            </a:br>
            <a:r>
              <a:rPr b="0" lang="ca-ES" sz="2000" spc="-1" strike="noStrike">
                <a:solidFill>
                  <a:srgbClr val="b2b2b2"/>
                </a:solidFill>
                <a:latin typeface="Arial"/>
              </a:rPr>
              <a:t>Part 2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Es coloca el sensor al costat de la làmp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Es regula la tensió amb la font d’alimentaci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Es calcula tant la resistència de la làmpada com la tensió del sen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771640" y="4221000"/>
          <a:ext cx="5407200" cy="23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4221000"/>
                    <a:ext cx="540720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b2b2b2"/>
                </a:solidFill>
                <a:latin typeface="Arial"/>
              </a:rPr>
              <a:t>Definicions prèvi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47640" y="1359000"/>
          <a:ext cx="5619960" cy="191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359000"/>
                    <a:ext cx="5619960" cy="19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627280" y="3357720"/>
          <a:ext cx="3378240" cy="312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7280" y="3357720"/>
                    <a:ext cx="3378240" cy="31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b2b2b2"/>
                </a:solidFill>
                <a:latin typeface="Arial"/>
              </a:rPr>
              <a:t>Resultats</a:t>
            </a:r>
            <a:br>
              <a:rPr sz="4400"/>
            </a:br>
            <a:r>
              <a:rPr b="0" lang="ca-ES" sz="2000" spc="-1" strike="noStrike">
                <a:solidFill>
                  <a:srgbClr val="b2b2b2"/>
                </a:solidFill>
                <a:latin typeface="Arial"/>
              </a:rPr>
              <a:t>Part 2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971640" y="1413000"/>
          <a:ext cx="7210440" cy="370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13000"/>
                    <a:ext cx="7210440" cy="37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2124000" y="5084640"/>
          <a:ext cx="1457280" cy="8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5084640"/>
                    <a:ext cx="145728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2195640" y="5805360"/>
          <a:ext cx="1476360" cy="90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95640" y="5805360"/>
                    <a:ext cx="14763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3635280" y="5300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ffffff"/>
                </a:solidFill>
                <a:latin typeface="Arial"/>
              </a:rPr>
              <a:t>Compatible amb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708360" y="5950080"/>
            <a:ext cx="475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ffffff"/>
                </a:solidFill>
                <a:latin typeface="Arial"/>
              </a:rPr>
              <a:t>No es compatible amb log(      )=-16.68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ffffff"/>
                </a:solidFill>
                <a:latin typeface="Arial"/>
              </a:rPr>
              <a:t>Açò es deu a que l’emissivitat no es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6804000" y="6021360"/>
                <a:ext cx="34920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’ha calculat l’emissivitat de 3 cares difere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’ha comprovat experimentalment la llei de Stefan-Boltzman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b2b2b2"/>
                </a:solidFill>
                <a:latin typeface="Arial"/>
              </a:rPr>
              <a:t>Deducció llei de Wie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33400" y="1599840"/>
            <a:ext cx="3284640" cy="21891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024160" y="1599840"/>
            <a:ext cx="3284280" cy="2189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39640" y="404640"/>
                <a:ext cx="10162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den>
                        </m:f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971640" y="1589040"/>
                <a:ext cx="1079280" cy="2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2340000" y="1484280"/>
            <a:ext cx="4968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Es continua per a tot x i  (x &gt; 1.7 ^ g(x) &gt;1.7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La seua derivada es continua i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A més la successió de g(x) tendeix al punt fix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6516720" y="1557360"/>
                <a:ext cx="121932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  <m:r>
                      <m:t xml:space="preserve">∃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346720" y="1916280"/>
                <a:ext cx="379728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k</m:t>
                    </m:r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k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|</m:t>
                    </m:r>
                    <m:r>
                      <m:t xml:space="preserve">g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→</m:t>
                    </m:r>
                    <m:r>
                      <m:t xml:space="preserve">∃</m:t>
                    </m:r>
                    <m:r>
                      <m:t xml:space="preserve">!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250920" y="2924280"/>
            <a:ext cx="367164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 u="sng">
                <a:solidFill>
                  <a:srgbClr val="ffffff"/>
                </a:solidFill>
                <a:uFillTx/>
                <a:latin typeface="Arial"/>
              </a:rPr>
              <a:t>Codi per a pyth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def inter(x, numinter, tol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i =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x0 = 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error = 10*t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while(i&lt;numinter and error&gt;tol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x = 5*(1-math.e**(-x0)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error = abs(x-x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x0 = 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i +=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print i, error, 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3708360" y="3213000"/>
          <a:ext cx="3168720" cy="606600"/>
        </p:xfrm>
        <a:graphic>
          <a:graphicData uri="http://schemas.openxmlformats.org/drawingml/2006/table">
            <a:tbl>
              <a:tblPr/>
              <a:tblGrid>
                <a:gridCol w="719280"/>
                <a:gridCol w="1008000"/>
                <a:gridCol w="1441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r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4*10^-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65114282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3635280" y="2781360"/>
            <a:ext cx="33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ffffff"/>
                </a:solidFill>
                <a:latin typeface="Arial"/>
              </a:rPr>
              <a:t>Ex: inter(200, 50, 0.0000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2484360" y="4941720"/>
                <a:ext cx="648972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511428249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kλT</m:t>
                            </m:r>
                          </m:den>
                        </m:f>
                        <m:r>
                          <m:t xml:space="preserve">→</m:t>
                        </m:r>
                        <m:r>
                          <m:t xml:space="preserve">λ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11428249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28991</m:t>
                        </m:r>
                        <m:r>
                          <m:rPr>
                            <m:lit/>
                            <m:nor/>
                          </m:rPr>
                          <m:t xml:space="preserve">mK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991</m:t>
                        </m:r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mK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p>
                        </m:sSup>
                        <m:r>
                          <m:t xml:space="preserve">J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99792458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ff"/>
                </a:solidFill>
                <a:latin typeface="Arial"/>
              </a:rPr>
              <a:t>Cos negre</a:t>
            </a:r>
            <a:br>
              <a:rPr sz="4400"/>
            </a:b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Definició</a:t>
            </a:r>
            <a:endParaRPr b="0" lang="en-US" sz="1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La noció de cos negre va ser introduït per Gustav Kirchoff en 186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Un cos negre es un objecte teòric que absorbeix tota la radiació que re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La seua radiació depèn únicament de la temperatura a la que es trob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292720" y="1484280"/>
          <a:ext cx="295452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1484280"/>
                    <a:ext cx="295452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5435640" y="4005360"/>
          <a:ext cx="2663640" cy="236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5640" y="4005360"/>
                    <a:ext cx="2663640" cy="23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" descr="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755640" y="189000"/>
            <a:ext cx="12016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ff"/>
                </a:solidFill>
                <a:latin typeface="Arial"/>
              </a:rPr>
              <a:t>Cos negre</a:t>
            </a:r>
            <a:br>
              <a:rPr sz="4400"/>
            </a:b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Llei de Planck, Introducció històrica</a:t>
            </a:r>
            <a:endParaRPr b="0" lang="en-US" sz="1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50515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Arial"/>
              </a:rPr>
              <a:t>LLei de Rayleigh-Je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Va ser la primera en intentar explicar la radiància electromagnètica del cos negre a una temperatura T, utilitzant electromagnetisme clàss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S’aprecia que si                  la radiància tendeix a infin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332000" y="2781360"/>
                <a:ext cx="18446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kT</m:t>
                        </m:r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627280" y="3716280"/>
                <a:ext cx="71136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4" name=""/>
          <p:cNvGraphicFramePr/>
          <p:nvPr/>
        </p:nvGraphicFramePr>
        <p:xfrm>
          <a:off x="5508720" y="1773360"/>
          <a:ext cx="3101760" cy="265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1773360"/>
                    <a:ext cx="3101760" cy="26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84360" y="4508640"/>
            <a:ext cx="1498320" cy="2019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3492360" y="4508640"/>
            <a:ext cx="1606680" cy="195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6012000" y="4508640"/>
          <a:ext cx="2225520" cy="74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2000" y="4508640"/>
                    <a:ext cx="222552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ff"/>
                </a:solidFill>
                <a:latin typeface="Arial"/>
              </a:rPr>
              <a:t>Cos negre</a:t>
            </a:r>
            <a:br>
              <a:rPr sz="4400"/>
            </a:b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Llei de Planck, Introducció històrica</a:t>
            </a:r>
            <a:endParaRPr b="0" lang="en-US" sz="1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Catàstrofe ultraviole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Experiments de  Lummer i Pringsheim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Estudi experimental de la intensitat de la radiació del cos negre per a diferents longituds d’o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Comprovació de la llei de Rayleigh-Jeans per a altes longituds d’ona (baixes frecuenci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Contradicció amb la llei de Rayleigh-Jeans per a baixes longituds d’o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148360" y="1587600"/>
          <a:ext cx="2981160" cy="25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587600"/>
                    <a:ext cx="2981160" cy="25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580000" y="4437000"/>
            <a:ext cx="1419120" cy="190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979640" y="4437000"/>
            <a:ext cx="1419120" cy="1905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908000" y="63817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Otto Lumm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80000" y="6381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rnst Pringsheim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ff"/>
                </a:solidFill>
                <a:latin typeface="Arial"/>
              </a:rPr>
              <a:t>Cos negre</a:t>
            </a:r>
            <a:br>
              <a:rPr sz="4400"/>
            </a:b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Llei de Planck</a:t>
            </a:r>
            <a:endParaRPr b="0" lang="en-US" sz="1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Llei de Plan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S’ajusta perfectament a l’espectre del cos neg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00720" y="1500120"/>
          <a:ext cx="4044960" cy="37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500120"/>
                    <a:ext cx="4044960" cy="37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11280" y="4437000"/>
            <a:ext cx="4248000" cy="21909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468360" y="189000"/>
            <a:ext cx="974520" cy="140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468360" y="2637000"/>
          <a:ext cx="2770200" cy="63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2637000"/>
                    <a:ext cx="2770200" cy="63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611280" y="3357720"/>
          <a:ext cx="2697120" cy="614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1280" y="3357720"/>
                    <a:ext cx="269712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ff"/>
                </a:solidFill>
                <a:latin typeface="Arial"/>
              </a:rPr>
              <a:t>Cos negre</a:t>
            </a:r>
            <a:br>
              <a:rPr sz="2000"/>
            </a:b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Llei de Stefan-Boltzmann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LLei de Stefan-Boltzman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Integració de la llei de Planck per a totes les longituds d’on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er trobar l’energia irradiada per un cos negre hi ha que multiplicar E per la seua superfici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n el cas de una esfera:                                (cas útil en astronomí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71640" y="2492280"/>
          <a:ext cx="2552760" cy="5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492280"/>
                    <a:ext cx="255276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900000" y="3068640"/>
          <a:ext cx="2791080" cy="10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3068640"/>
                    <a:ext cx="279108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4500720" y="2438280"/>
          <a:ext cx="3124080" cy="118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0720" y="2438280"/>
                    <a:ext cx="312408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395280" y="115920"/>
            <a:ext cx="1239840" cy="1376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7451640" y="115920"/>
            <a:ext cx="1251000" cy="137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3419640" y="4869000"/>
          <a:ext cx="1114200" cy="18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19640" y="4869000"/>
                    <a:ext cx="111420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ffffff"/>
                </a:solidFill>
                <a:latin typeface="Arial"/>
              </a:rPr>
              <a:t>Cos negre</a:t>
            </a:r>
            <a:br>
              <a:rPr sz="2400"/>
            </a:br>
            <a:r>
              <a:rPr b="0" lang="ca-ES" sz="2000" spc="-1" strike="noStrike">
                <a:solidFill>
                  <a:srgbClr val="ffffff"/>
                </a:solidFill>
                <a:latin typeface="Arial"/>
              </a:rPr>
              <a:t>Llei de Wien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LLei de Wi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Relació entre         a la qual hi ha radiancia màxima i la temperatura del cos neg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Originalment experimen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Es pot deduir de la llei de Plan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268360" y="1916280"/>
                <a:ext cx="16524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3" name=""/>
          <p:cNvGraphicFramePr/>
          <p:nvPr/>
        </p:nvGraphicFramePr>
        <p:xfrm>
          <a:off x="1258920" y="2421000"/>
          <a:ext cx="2066760" cy="20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421000"/>
                    <a:ext cx="2066760" cy="2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042920" y="189000"/>
            <a:ext cx="870120" cy="1230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826920" y="3357720"/>
            <a:ext cx="2697480" cy="614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08000" y="4005360"/>
                <a:ext cx="80643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λ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t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c</m:t>
                                    </m:r>
                                  </m:num>
                                  <m:den>
                                    <m:r>
                                      <m:t xml:space="preserve">λ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hc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</m:den>
                            </m:f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hc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</m:den>
                            </m:f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hc</m:t>
                                        </m:r>
                                      </m:num>
                                      <m:den>
                                        <m:r>
                                          <m:t xml:space="preserve">λ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T</m:t>
                                        </m:r>
                                      </m:den>
                                    </m:f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λ</m:t>
                        </m:r>
                        <m:r>
                          <m:t xml:space="preserve">≠</m:t>
                        </m:r>
                        <m:r>
                          <m:t xml:space="preserve">∞</m:t>
                        </m:r>
                      </m:e>
                    </m:acc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den>
                        </m:f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hc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den>
                        </m:f>
                      </m:e>
                    </m:acc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250920" y="515772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No te solució analítica, però es pot resoldre per iteració de punt fix. </a:t>
            </a: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(Resolució al final de la presentació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932360" y="1125360"/>
          <a:ext cx="3753000" cy="265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2360" y="1125360"/>
                    <a:ext cx="375300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5580000" y="4653000"/>
          <a:ext cx="2822760" cy="208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80000" y="4653000"/>
                    <a:ext cx="282276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ffffff"/>
                </a:solidFill>
                <a:latin typeface="Arial"/>
              </a:rPr>
              <a:t>Cos negre</a:t>
            </a:r>
            <a:br>
              <a:rPr sz="4800"/>
            </a:b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Exemples - utilitats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En astrofís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Per a calcular la temperatura de les estrell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Radiació de còsmica de fons (radiació de cos negre per 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332000" y="2565360"/>
            <a:ext cx="1114200" cy="181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932360" y="1341360"/>
            <a:ext cx="3778200" cy="2822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332000" y="3645000"/>
                <a:ext cx="8506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78" name=""/>
          <p:cNvGraphicFramePr/>
          <p:nvPr/>
        </p:nvGraphicFramePr>
        <p:xfrm>
          <a:off x="468360" y="4005360"/>
          <a:ext cx="3222720" cy="26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4005360"/>
                    <a:ext cx="3222720" cy="26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4859280" y="4286160"/>
            <a:ext cx="3111480" cy="257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"/>
          <p:cNvGraphicFramePr/>
          <p:nvPr/>
        </p:nvGraphicFramePr>
        <p:xfrm>
          <a:off x="0" y="-100080"/>
          <a:ext cx="3143160" cy="1828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-100080"/>
                    <a:ext cx="31431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vid</cp:lastModifiedBy>
  <dcterms:modified xsi:type="dcterms:W3CDTF">2008-03-28T19:02:18Z</dcterms:modified>
  <cp:revision>160</cp:revision>
  <dc:subject/>
  <dc:title>PowerPoint Presentation</dc:title>
</cp:coreProperties>
</file>